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367-1086-4CF9-862D-DDD7A9CF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353-8D03-4535-BE3C-F7CF21DE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8EA-41F9-42F5-BE68-3BCAA7F6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FFE-48E8-4368-884A-F1BE7A20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C639-A69A-4D2B-A364-5D1111BD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0EAD-65DF-4694-A552-BA0417DA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02AE-8D35-419D-A41B-24FBF5FA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E8D7-6913-4034-8AE7-EC5A997A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D715-7E37-4044-B299-1FE8D057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0F67-742E-4460-B836-1CCD5499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98DA-2D81-4970-9680-BD831DFA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45D-0CEB-4B41-9044-040FEE6D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88ED-DD6F-4BC4-8827-8DD8F546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57C9-48CC-4F1B-A89C-2A84C0D1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5B52-B3F2-4036-B305-9690CF8D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B9A2-BFE9-4635-BE2A-A735D352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40C3-A3CA-4B8D-BD2C-93842088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43F-5FBC-4C3E-A375-C3A440ED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AAF-AC5A-43FC-A149-096DD50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D62F-B398-45A4-A3C8-60CCB887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3D2-AB85-4C2D-8594-5AB1BA75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14D-7C04-435D-829A-A2BB1C52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380-5820-44AD-8202-64DD7E5F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162-3452-4372-95E7-2CC635EB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6608-6DC6-4417-A201-9A1FCAD9CCFB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4577-4A06-4612-85FA-7DA1CC891104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oing, Going, Gone with the Pain and the Great On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Judy Blume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y Cin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igail is perfect and bossy they call her the great on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ke is dumb and they call him the pai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d and Mom are nice and bossy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t is me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y went to the beach with there grand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 the carnival Jake with there au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ake in a mall with Abigail and da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y went to Everglades City to visit there grandpa Pe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ke got lost in the mall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bigail told some girls to save her spot for a ride and the girls just lef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ake put a flower up his nose and the babysitter took him to the hospit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t is always mean to the babysitt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1and 2 main even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41:02Z</dcterms:created>
  <dc:creator>Default User</dc:creator>
  <dc:description/>
  <dc:language>en-US</dc:language>
  <cp:lastModifiedBy>D83  User</cp:lastModifiedBy>
  <dcterms:modified xsi:type="dcterms:W3CDTF">2010-12-09T15:29:16Z</dcterms:modified>
  <cp:revision>5</cp:revision>
  <dc:subject/>
  <dc:title>Going, going, gone with the pain  and the great one</dc:title>
</cp:coreProperties>
</file>